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gif" ContentType="image/gif"/>
  <Override PartName="/ppt/media/explode.wav" ContentType="audio/x-wav"/>
  <Override PartName="/ppt/media/image5.jpeg" ContentType="image/jpeg"/>
  <Override PartName="/ppt/media/image15.gif" ContentType="image/gif"/>
  <Override PartName="/ppt/media/image16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camera.wav" ContentType="audio/x-wav"/>
  <Override PartName="/ppt/media/DRUMROLL.WAV" ContentType="audio/x-wav"/>
  <Override PartName="/ppt/media/image24.jpeg" ContentType="image/jpeg"/>
  <Override PartName="/ppt/media/projctor.wav" ContentType="audio/x-wav"/>
  <Override PartName="/ppt/media/image9.png" ContentType="image/png"/>
  <Override PartName="/ppt/media/image26.png" ContentType="image/png"/>
  <Override PartName="/ppt/media/image3.png" ContentType="image/png"/>
  <Override PartName="/ppt/media/carbrake.wav" ContentType="audio/x-wav"/>
  <Override PartName="/ppt/media/APPLAUSE.WAV" ContentType="audio/x-wav"/>
  <Override PartName="/ppt/media/image17.jpeg" ContentType="image/jpeg"/>
  <Override PartName="/ppt/media/image27.gif" ContentType="image/gif"/>
  <Override PartName="/ppt/media/image1.jpeg" ContentType="image/jpeg"/>
  <Override PartName="/ppt/media/image18.png" ContentType="image/png"/>
  <Override PartName="/ppt/media/image6.jpeg" ContentType="image/jpeg"/>
  <Override PartName="/ppt/media/EXPLODE.WAV" ContentType="audio/x-wav"/>
  <Override PartName="/ppt/media/image4.wmf" ContentType="image/x-wmf"/>
  <Override PartName="/ppt/media/image2.jpeg" ContentType="image/jpeg"/>
  <Override PartName="/ppt/media/image11.png" ContentType="image/png"/>
  <Override PartName="/ppt/media/image19.jpeg" ContentType="image/jpeg"/>
  <Override PartName="/ppt/media/image25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E0A-D775-4493-9C90-5F10EFBF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7A2-BDDE-4F34-B353-C967A93F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557-17B5-4E57-9FFA-47715112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E07-1B9E-4E5A-B0E7-49D41EF2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1E3-8183-44F8-8B7A-3158E85E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17C-7901-4DAB-B329-09B7DA2A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21A-6988-43A0-86BA-BBCF1218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C5F-0375-43C1-A6DA-F8FDCFD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2C1-C6CF-402C-A953-6E4FB67B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ECA-10DB-4C9B-9953-02E94A01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C5E-3C92-487B-81A1-78BB506B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29D-29F0-4D73-920D-7261713D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FB22-3496-49F6-9F25-8979173A82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EXPLODE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4.xm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audio" Target="../media/projctor.wav"/><Relationship Id="rId7" Type="http://schemas.openxmlformats.org/officeDocument/2006/relationships/audio" Target="../media/carbrak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" Target="slide33.xml"/><Relationship Id="rId4" Type="http://schemas.openxmlformats.org/officeDocument/2006/relationships/image" Target="../media/image15.gif"/><Relationship Id="rId5" Type="http://schemas.openxmlformats.org/officeDocument/2006/relationships/slide" Target="slide33.xml"/><Relationship Id="rId6" Type="http://schemas.openxmlformats.org/officeDocument/2006/relationships/image" Target="../media/image15.gif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APPLAUSE.WAV" TargetMode="External"/><Relationship Id="rId3" Type="http://schemas.microsoft.com/office/2007/relationships/media" Target="file:///tmp/home/.config/libreoffice/4/user/gallery/APPLAUSE.WAV" TargetMode="External"/><Relationship Id="rId4" Type="http://schemas.openxmlformats.org/officeDocument/2006/relationships/image" Target="../media/image25.png"/><Relationship Id="rId5" Type="http://schemas.openxmlformats.org/officeDocument/2006/relationships/slide" Target="slide33.xml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" Target="slide33.xml"/><Relationship Id="rId4" Type="http://schemas.openxmlformats.org/officeDocument/2006/relationships/image" Target="../media/image1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hyperlink" Target="http://www.aaaxk.com/" TargetMode="External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" Target="slide39.xml"/><Relationship Id="rId6" Type="http://schemas.openxmlformats.org/officeDocument/2006/relationships/slide" Target="slide39.xml"/><Relationship Id="rId7" Type="http://schemas.openxmlformats.org/officeDocument/2006/relationships/slide" Target="slide39.xml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3edu.net/" TargetMode="Externa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《中国历史》八年级上册第五单元  人民解放战争的胜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2971800"/>
            <a:ext cx="4495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</a:t>
            </a: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8</a:t>
            </a:r>
            <a:r>
              <a:rPr b="1" lang="zh-CN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  战略大决战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67400" cy="6856920"/>
            <a:chOff x="0" y="0"/>
            <a:chExt cx="9167400" cy="6856920"/>
          </a:xfrm>
        </p:grpSpPr>
        <p:grpSp>
          <p:nvGrpSpPr>
            <p:cNvPr id="122" name=""/>
            <p:cNvGrpSpPr/>
            <p:nvPr/>
          </p:nvGrpSpPr>
          <p:grpSpPr>
            <a:xfrm>
              <a:off x="0" y="38160"/>
              <a:ext cx="9142920" cy="6818760"/>
              <a:chOff x="0" y="38160"/>
              <a:chExt cx="9142920" cy="681876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0" y="38160"/>
                <a:ext cx="9142920" cy="6818760"/>
                <a:chOff x="0" y="38160"/>
                <a:chExt cx="9142920" cy="6818760"/>
              </a:xfrm>
            </p:grpSpPr>
            <p:pic>
              <p:nvPicPr>
                <p:cNvPr id="1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38160"/>
                  <a:ext cx="9142920" cy="681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0" y="38160"/>
                  <a:ext cx="9142920" cy="681876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0" y="38160"/>
                <a:ext cx="3428640" cy="100836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50000">
                    <a:srgbClr val="ffffff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cc00"/>
                    </a:solidFill>
                    <a:latin typeface="Times New Roman"/>
                    <a:ea typeface="隶书"/>
                  </a:rPr>
                  <a:t>   </a:t>
                </a:r>
                <a:r>
                  <a:rPr b="0" lang="zh-CN" sz="4000" spc="-1" strike="noStrike">
                    <a:solidFill>
                      <a:srgbClr val="ff5050"/>
                    </a:solidFill>
                    <a:latin typeface="Times New Roman"/>
                    <a:ea typeface="隶书"/>
                  </a:rPr>
                  <a:t>辽沈战役</a:t>
                </a:r>
                <a:r>
                  <a:rPr b="0" lang="zh-CN" sz="2000" spc="-1" strike="noStrike">
                    <a:solidFill>
                      <a:srgbClr val="ff5050"/>
                    </a:solidFill>
                    <a:latin typeface="Times New Roman"/>
                    <a:ea typeface="隶书"/>
                  </a:rPr>
                  <a:t>(</a:t>
                </a:r>
                <a:r>
                  <a:rPr b="1" lang="zh-CN" sz="2000" spc="-1" strike="noStrike">
                    <a:solidFill>
                      <a:srgbClr val="ff5050"/>
                    </a:solidFill>
                    <a:latin typeface="宋体"/>
                  </a:rPr>
                  <a:t>1948.9.12--1948.11.2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45880" y="3918240"/>
                <a:ext cx="459360" cy="70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锦州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44600" y="2162160"/>
                <a:ext cx="9018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沈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01160" y="38160"/>
                <a:ext cx="4975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长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97680" y="3038400"/>
                <a:ext cx="10123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黑山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大虎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45880" y="4754160"/>
                <a:ext cx="70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塔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505600" y="3852000"/>
              <a:ext cx="573480" cy="83628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94600" y="38160"/>
              <a:ext cx="573480" cy="83628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0280" y="2597760"/>
              <a:ext cx="573480" cy="83628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45880" y="3038760"/>
              <a:ext cx="459360" cy="1143000"/>
            </a:xfrm>
            <a:custGeom>
              <a:avLst/>
              <a:gdLst>
                <a:gd name="textAreaLeft" fmla="*/ 61560 w 459360"/>
                <a:gd name="textAreaRight" fmla="*/ 397800 w 45936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800" y="0"/>
              <a:ext cx="459360" cy="1143000"/>
            </a:xfrm>
            <a:custGeom>
              <a:avLst/>
              <a:gdLst>
                <a:gd name="textAreaLeft" fmla="*/ 61560 w 459360"/>
                <a:gd name="textAreaRight" fmla="*/ 397800 w 45936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50840" y="2062800"/>
              <a:ext cx="459360" cy="1143000"/>
            </a:xfrm>
            <a:custGeom>
              <a:avLst/>
              <a:gdLst>
                <a:gd name="textAreaLeft" fmla="*/ 61560 w 459360"/>
                <a:gd name="textAreaRight" fmla="*/ 397800 w 45936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79440" y="3676320"/>
              <a:ext cx="921240" cy="879840"/>
            </a:xfrm>
            <a:custGeom>
              <a:avLst/>
              <a:gdLst>
                <a:gd name="textAreaLeft" fmla="*/ 123120 w 921240"/>
                <a:gd name="textAreaRight" fmla="*/ 798120 w 921240"/>
                <a:gd name="textAreaTop" fmla="*/ 153720 h 879840"/>
                <a:gd name="textAreaBottom" fmla="*/ 637920 h 8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639800">
              <a:off x="7044120" y="2410920"/>
              <a:ext cx="830880" cy="1265040"/>
            </a:xfrm>
            <a:custGeom>
              <a:avLst/>
              <a:gdLst>
                <a:gd name="textAreaLeft" fmla="*/ 111240 w 830880"/>
                <a:gd name="textAreaRight" fmla="*/ 719640 w 830880"/>
                <a:gd name="textAreaTop" fmla="*/ 221400 h 1265040"/>
                <a:gd name="textAreaBottom" fmla="*/ 917280 h 126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5328800">
              <a:off x="8667360" y="390960"/>
              <a:ext cx="478800" cy="414360"/>
            </a:xfrm>
            <a:custGeom>
              <a:avLst/>
              <a:gdLst>
                <a:gd name="textAreaLeft" fmla="*/ 83520 w 478800"/>
                <a:gd name="textAreaRight" fmla="*/ 347040 w 478800"/>
                <a:gd name="textAreaTop" fmla="*/ 55440 h 414360"/>
                <a:gd name="textAreaBottom" fmla="*/ 358920 h 4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848600" y="3906720"/>
            <a:ext cx="1231200" cy="916560"/>
            <a:chOff x="1848600" y="3906720"/>
            <a:chExt cx="1231200" cy="916560"/>
          </a:xfrm>
        </p:grpSpPr>
        <p:sp>
          <p:nvSpPr>
            <p:cNvPr id="142" name=""/>
            <p:cNvSpPr/>
            <p:nvPr/>
          </p:nvSpPr>
          <p:spPr>
            <a:xfrm>
              <a:off x="2454480" y="3906720"/>
              <a:ext cx="625320" cy="701640"/>
            </a:xfrm>
            <a:prstGeom prst="irregularSeal2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48600" y="4515840"/>
              <a:ext cx="566640" cy="30744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773840" y="439560"/>
            <a:ext cx="522360" cy="470160"/>
          </a:xfrm>
          <a:custGeom>
            <a:avLst/>
            <a:gdLst>
              <a:gd name="textAreaLeft" fmla="*/ 0 w 522360"/>
              <a:gd name="textAreaRight" fmla="*/ 522720 w 522360"/>
              <a:gd name="textAreaTop" fmla="*/ 60840 h 470160"/>
              <a:gd name="textAreaBottom" fmla="*/ 409320 h 470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00640" y="4060800"/>
            <a:ext cx="422280" cy="4287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71480" y="3205080"/>
            <a:ext cx="1238400" cy="2043720"/>
            <a:chOff x="771480" y="3205080"/>
            <a:chExt cx="1238400" cy="2043720"/>
          </a:xfrm>
        </p:grpSpPr>
        <p:sp>
          <p:nvSpPr>
            <p:cNvPr id="147" name=""/>
            <p:cNvSpPr/>
            <p:nvPr/>
          </p:nvSpPr>
          <p:spPr>
            <a:xfrm>
              <a:off x="771480" y="3219480"/>
              <a:ext cx="77148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关门打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2520" y="3205080"/>
              <a:ext cx="657360" cy="20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各个击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19973400">
            <a:off x="4998600" y="3478320"/>
            <a:ext cx="1201680" cy="428400"/>
          </a:xfrm>
          <a:prstGeom prst="leftArrow">
            <a:avLst>
              <a:gd name="adj1" fmla="val 50000"/>
              <a:gd name="adj2" fmla="val 70126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976640" y="2963880"/>
            <a:ext cx="1592280" cy="1204560"/>
            <a:chOff x="4976640" y="2963880"/>
            <a:chExt cx="1592280" cy="1204560"/>
          </a:xfrm>
        </p:grpSpPr>
        <p:sp>
          <p:nvSpPr>
            <p:cNvPr id="151" name=""/>
            <p:cNvSpPr/>
            <p:nvPr/>
          </p:nvSpPr>
          <p:spPr>
            <a:xfrm>
              <a:off x="6008760" y="2963880"/>
              <a:ext cx="560160" cy="751680"/>
            </a:xfrm>
            <a:prstGeom prst="irregularSeal2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76640" y="3417120"/>
              <a:ext cx="560520" cy="751320"/>
            </a:xfrm>
            <a:prstGeom prst="irregularSeal2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1447920"/>
            <a:ext cx="769608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5680" y="16002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锦州是东北敌人通向关内的咽喉，拿下锦州，关门打狗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胜利的关键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攻锦战役全面打响，激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，全歼守敌范汉杰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0"/>
            <a:ext cx="1981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94040" y="40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8640" y="611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0"/>
            <a:ext cx="162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春解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5562720"/>
            <a:ext cx="57909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3640" y="528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5440" y="5791320"/>
            <a:ext cx="44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全歼廖耀湘兵团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下沈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辽沈战役：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关门打狗，决战黑土地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　    　辽沈战役历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，歼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余人，使敌军从长期占有的数量上的优势，迅速跌为弱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7621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辽沈战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9810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指挥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1981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林彪、罗荣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参战部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276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东北人民解放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4419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结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4419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放东北全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 txBox="1"/>
            <p:nvPr/>
          </p:nvSpPr>
          <p:spPr>
            <a:xfrm>
              <a:off x="3657600" y="4257000"/>
              <a:ext cx="1371600" cy="55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刘伯承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752480" y="4257000"/>
              <a:ext cx="1371600" cy="55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邓小平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791320" y="4257000"/>
              <a:ext cx="914400" cy="55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陈毅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7772400" y="4257000"/>
              <a:ext cx="914400" cy="55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粟裕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0" y="4257000"/>
              <a:ext cx="1371600" cy="55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谭震林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676520" y="2770920"/>
              <a:ext cx="5333760" cy="92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淮海战役总前委</a:t>
              </a:r>
              <a:endParaRPr b="0" lang="en-US" sz="6000" spc="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7621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淮海战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9810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指挥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19051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刘伯承、陈毅、邓小平、粟裕、谭震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41316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参战部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41316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原和华东解放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380880"/>
            <a:ext cx="854064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淮海战役：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中原逐鹿  六十万对八十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华野司令部在曲阜发布《淮海战役攻击命令》，我军采取了“中间突破、分段歼敌”的作战方案，在徐州古战场展开了一场空前惨烈的决战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80880" y="0"/>
            <a:ext cx="8399160" cy="6316200"/>
            <a:chOff x="380880" y="0"/>
            <a:chExt cx="8399160" cy="6316200"/>
          </a:xfrm>
        </p:grpSpPr>
        <p:grpSp>
          <p:nvGrpSpPr>
            <p:cNvPr id="185" name=""/>
            <p:cNvGrpSpPr/>
            <p:nvPr/>
          </p:nvGrpSpPr>
          <p:grpSpPr>
            <a:xfrm>
              <a:off x="380880" y="0"/>
              <a:ext cx="8399160" cy="6316200"/>
              <a:chOff x="380880" y="0"/>
              <a:chExt cx="8399160" cy="6316200"/>
            </a:xfrm>
          </p:grpSpPr>
          <p:pic>
            <p:nvPicPr>
              <p:cNvPr id="1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0"/>
                <a:ext cx="8399160" cy="631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380880" y="0"/>
                <a:ext cx="8399160" cy="63162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80880" y="0"/>
              <a:ext cx="3216240" cy="977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5050"/>
                  </a:solidFill>
                  <a:latin typeface="Times New Roman"/>
                  <a:ea typeface="隶书"/>
                </a:rPr>
                <a:t>  </a:t>
              </a:r>
              <a:r>
                <a:rPr b="1" lang="zh-CN" sz="4000" spc="-1" strike="noStrike">
                  <a:solidFill>
                    <a:srgbClr val="ff5050"/>
                  </a:solidFill>
                  <a:latin typeface="Times New Roman"/>
                  <a:ea typeface="隶书"/>
                </a:rPr>
                <a:t> </a:t>
              </a:r>
              <a:r>
                <a:rPr b="1" lang="zh-CN" sz="4000" spc="-1" strike="noStrike">
                  <a:solidFill>
                    <a:srgbClr val="ff5050"/>
                  </a:solidFill>
                  <a:latin typeface="Times New Roman"/>
                  <a:ea typeface="隶书"/>
                </a:rPr>
                <a:t>淮海战役</a:t>
              </a:r>
              <a:r>
                <a:rPr b="1" lang="zh-CN" sz="1800" spc="-1" strike="noStrike">
                  <a:solidFill>
                    <a:srgbClr val="ff5050"/>
                  </a:solidFill>
                  <a:latin typeface="宋体"/>
                </a:rPr>
                <a:t>（</a:t>
              </a:r>
              <a:r>
                <a:rPr b="1" lang="zh-CN" sz="1800" spc="-1" strike="noStrike">
                  <a:solidFill>
                    <a:srgbClr val="ff5050"/>
                  </a:solidFill>
                  <a:latin typeface="宋体"/>
                </a:rPr>
                <a:t>1948.11.7 -- 1949.1.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97120" y="2032200"/>
              <a:ext cx="660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徐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15160" y="1298520"/>
              <a:ext cx="660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海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2400" y="1665360"/>
              <a:ext cx="744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商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03400" y="4415040"/>
              <a:ext cx="1067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双堆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70600" y="1817640"/>
              <a:ext cx="728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碾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61040" y="5402160"/>
              <a:ext cx="69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蚌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81200" y="2643120"/>
              <a:ext cx="1015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陈官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79680" y="1665360"/>
              <a:ext cx="423720" cy="7333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34000" y="3681360"/>
              <a:ext cx="423720" cy="73368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6880" y="1451160"/>
              <a:ext cx="424080" cy="7333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61040" y="4668840"/>
              <a:ext cx="423720" cy="7333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57720" y="1909800"/>
              <a:ext cx="423720" cy="7333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78560" y="1817640"/>
              <a:ext cx="423720" cy="73368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73400" y="1665360"/>
              <a:ext cx="423720" cy="7333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630680" y="1087560"/>
            <a:ext cx="1854360" cy="1598400"/>
            <a:chOff x="4630680" y="1087560"/>
            <a:chExt cx="1854360" cy="1598400"/>
          </a:xfrm>
        </p:grpSpPr>
        <p:sp>
          <p:nvSpPr>
            <p:cNvPr id="204" name=""/>
            <p:cNvSpPr/>
            <p:nvPr/>
          </p:nvSpPr>
          <p:spPr>
            <a:xfrm>
              <a:off x="6045120" y="1752480"/>
              <a:ext cx="439920" cy="933480"/>
            </a:xfrm>
            <a:custGeom>
              <a:avLst/>
              <a:gdLst>
                <a:gd name="textAreaLeft" fmla="*/ 58680 w 439920"/>
                <a:gd name="textAreaRight" fmla="*/ 381240 w 439920"/>
                <a:gd name="textAreaTop" fmla="*/ 163080 h 933480"/>
                <a:gd name="textAreaBottom" fmla="*/ 67680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279400">
              <a:off x="4827240" y="1752120"/>
              <a:ext cx="388800" cy="773280"/>
            </a:xfrm>
            <a:custGeom>
              <a:avLst/>
              <a:gdLst>
                <a:gd name="textAreaLeft" fmla="*/ 51840 w 388800"/>
                <a:gd name="textAreaRight" fmla="*/ 336960 w 388800"/>
                <a:gd name="textAreaTop" fmla="*/ 135360 h 773280"/>
                <a:gd name="textAreaBottom" fmla="*/ 560880 h 77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21400" y="1087560"/>
              <a:ext cx="220680" cy="1017360"/>
            </a:xfrm>
            <a:prstGeom prst="downArrow">
              <a:avLst>
                <a:gd name="adj1" fmla="val 50000"/>
                <a:gd name="adj2" fmla="val 11525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216400" y="2319480"/>
            <a:ext cx="863640" cy="733320"/>
          </a:xfrm>
          <a:prstGeom prst="irregularSeal2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8141000">
            <a:off x="2387520" y="5435280"/>
            <a:ext cx="1252440" cy="366480"/>
          </a:xfrm>
          <a:custGeom>
            <a:avLst/>
            <a:gdLst>
              <a:gd name="textAreaLeft" fmla="*/ 195480 w 1252440"/>
              <a:gd name="textAreaRight" fmla="*/ 1096200 w 1252440"/>
              <a:gd name="textAreaTop" fmla="*/ 91440 h 366480"/>
              <a:gd name="textAreaBottom" fmla="*/ 275040 h 366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624040" y="4199040"/>
            <a:ext cx="1643040" cy="1101600"/>
            <a:chOff x="2624040" y="4199040"/>
            <a:chExt cx="1643040" cy="1101600"/>
          </a:xfrm>
        </p:grpSpPr>
        <p:sp>
          <p:nvSpPr>
            <p:cNvPr id="210" name=""/>
            <p:cNvSpPr/>
            <p:nvPr/>
          </p:nvSpPr>
          <p:spPr>
            <a:xfrm>
              <a:off x="2624040" y="4199040"/>
              <a:ext cx="322200" cy="1101600"/>
            </a:xfrm>
            <a:custGeom>
              <a:avLst/>
              <a:gdLst>
                <a:gd name="textAreaLeft" fmla="*/ 43200 w 322200"/>
                <a:gd name="textAreaRight" fmla="*/ 279000 w 322200"/>
                <a:gd name="textAreaTop" fmla="*/ 192600 h 1101600"/>
                <a:gd name="textAreaBottom" fmla="*/ 798840 h 11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76840" y="4402080"/>
              <a:ext cx="390240" cy="898560"/>
            </a:xfrm>
            <a:custGeom>
              <a:avLst/>
              <a:gdLst>
                <a:gd name="textAreaLeft" fmla="*/ 52200 w 390240"/>
                <a:gd name="textAreaRight" fmla="*/ 338040 w 390240"/>
                <a:gd name="textAreaTop" fmla="*/ 156960 h 898560"/>
                <a:gd name="textAreaBottom" fmla="*/ 651600 h 8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rot="19827600">
            <a:off x="3196800" y="3052800"/>
            <a:ext cx="1067040" cy="444600"/>
          </a:xfrm>
          <a:prstGeom prst="leftArrow">
            <a:avLst>
              <a:gd name="adj1" fmla="val 50000"/>
              <a:gd name="adj2" fmla="val 6000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81080" y="2999520"/>
            <a:ext cx="2456280" cy="1042920"/>
            <a:chOff x="1981080" y="2999520"/>
            <a:chExt cx="2456280" cy="1042920"/>
          </a:xfrm>
        </p:grpSpPr>
        <p:sp>
          <p:nvSpPr>
            <p:cNvPr id="214" name=""/>
            <p:cNvSpPr/>
            <p:nvPr/>
          </p:nvSpPr>
          <p:spPr>
            <a:xfrm>
              <a:off x="1981080" y="3048120"/>
              <a:ext cx="866880" cy="915840"/>
            </a:xfrm>
            <a:custGeom>
              <a:avLst/>
              <a:gdLst>
                <a:gd name="textAreaLeft" fmla="*/ 115920 w 866880"/>
                <a:gd name="textAreaRight" fmla="*/ 750960 w 866880"/>
                <a:gd name="textAreaTop" fmla="*/ 160200 h 915840"/>
                <a:gd name="textAreaBottom" fmla="*/ 664200 h 9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816400">
              <a:off x="3673080" y="3001680"/>
              <a:ext cx="457200" cy="10382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81440 h 1038240"/>
                <a:gd name="textAreaBottom" fmla="*/ 752760 h 10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197160" y="4956120"/>
            <a:ext cx="679680" cy="503280"/>
          </a:xfrm>
          <a:prstGeom prst="irregularSeal2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60640" y="3297240"/>
            <a:ext cx="679320" cy="503280"/>
          </a:xfrm>
          <a:prstGeom prst="irregularSeal2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8088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12080" y="380880"/>
            <a:ext cx="30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黄伯韬被击毙，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歼黄兵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整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4921200"/>
            <a:ext cx="5562720" cy="193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5486400"/>
            <a:ext cx="98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全歼黄维集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人马，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堆集之夜，滚雷似的欢呼声此起彼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1905120"/>
            <a:ext cx="48769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2362320"/>
            <a:ext cx="1902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军对杜部发起猛烈攻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陈毅、粟裕将军在前线指挥所里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君子之礼接待了被俘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杜聿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81080"/>
            <a:ext cx="164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毛泽东电令：对杜聿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部，围而不打。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59920" y="5029200"/>
            <a:ext cx="36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解放军在双堆集完成了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维兵团的合围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7621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淮海战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9810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指挥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9051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刘伯承、陈毅、邓小平、粟裕、谭震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341316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参战部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41316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原和华东解放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4419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结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441972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奠定了解放长江以南各省的基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55760" y="21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27800" y="1066680"/>
            <a:ext cx="60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淮海战役历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，共歼灭敌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5003640" y="620640"/>
          <a:ext cx="3851280" cy="3090960"/>
        </p:xfrm>
        <a:graphic>
          <a:graphicData uri="http://schemas.openxmlformats.org/drawingml/2006/table">
            <a:tbl>
              <a:tblPr/>
              <a:tblGrid>
                <a:gridCol w="2016360"/>
                <a:gridCol w="1834920"/>
              </a:tblGrid>
              <a:tr h="432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民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万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担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.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万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小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万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牲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.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万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船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0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筹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.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亿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挑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.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万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395280" y="8366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陈毅曾说过，淮海战役是人民群众用小车推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0"/>
            <a:ext cx="59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淮海战役人民支前统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3836880"/>
          <a:ext cx="9144000" cy="302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836880"/>
                    <a:ext cx="914400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152280"/>
            <a:ext cx="2438280" cy="67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8880" y="22860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背   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77760"/>
            <a:ext cx="8381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解放战争进入第三年，战争形势发生了巨大变化。在解放军的大规模进攻面前，国民党军队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五个战略集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被牵制在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西北、中原、华东、华北、东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个战场上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国民党决定采取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点防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战略方针，企图垂死挣扎。毛泽东根据这种形势，根据敌我力量对比变化，认为人民解放军同国民党军进行战略决战的时机已到来。故当机立断，决定对敌发动战略决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自《中国共产党大典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12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5851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349800" y="61326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民担架队准备上前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24800" y="6600960"/>
            <a:ext cx="6192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525240"/>
            <a:ext cx="85406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津战役：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战和并用 铸剑为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　采用了“翁中捉鳖”的战术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我东北野战军先前兵团攻占密云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完成分割包围敌人于塘沽、天津、北平、新保安、张家口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攻克新保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收复张家口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对天津发起总攻，俘虏敌警备司令陈长捷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北平和平解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4211640" cy="2808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332000" y="4724280"/>
            <a:ext cx="11048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grpSp>
          <p:nvGrpSpPr>
            <p:cNvPr id="248" name=""/>
            <p:cNvGrpSpPr/>
            <p:nvPr/>
          </p:nvGrpSpPr>
          <p:grpSpPr>
            <a:xfrm>
              <a:off x="0" y="0"/>
              <a:ext cx="9143280" cy="6857280"/>
              <a:chOff x="0" y="0"/>
              <a:chExt cx="9143280" cy="685728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3280" cy="68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0" y="0"/>
                <a:ext cx="9091080" cy="685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114600" y="0"/>
              <a:ext cx="3029040" cy="916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5050"/>
                  </a:solidFill>
                  <a:latin typeface="Times New Roman"/>
                  <a:ea typeface="隶书"/>
                </a:rPr>
                <a:t>   </a:t>
              </a:r>
              <a:r>
                <a:rPr b="1" lang="zh-CN" sz="3600" spc="-1" strike="noStrike">
                  <a:solidFill>
                    <a:srgbClr val="ff5050"/>
                  </a:solidFill>
                  <a:latin typeface="Times New Roman"/>
                  <a:ea typeface="隶书"/>
                </a:rPr>
                <a:t>平津战役</a:t>
              </a:r>
              <a:r>
                <a:rPr b="1" lang="zh-CN" sz="1800" spc="-1" strike="noStrike">
                  <a:solidFill>
                    <a:srgbClr val="ff5050"/>
                  </a:solidFill>
                  <a:latin typeface="Times New Roman"/>
                  <a:ea typeface="隶书"/>
                </a:rPr>
                <a:t>（</a:t>
              </a:r>
              <a:r>
                <a:rPr b="1" lang="zh-CN" sz="1800" spc="-1" strike="noStrike">
                  <a:solidFill>
                    <a:srgbClr val="ff5050"/>
                  </a:solidFill>
                  <a:latin typeface="Times New Roman"/>
                  <a:ea typeface="隶书"/>
                </a:rPr>
                <a:t>1948.11.29--1949.1.3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0400" y="594720"/>
              <a:ext cx="979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张家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40720" y="5426280"/>
              <a:ext cx="780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塘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49960" y="1504080"/>
              <a:ext cx="1216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新保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14600" y="4797000"/>
              <a:ext cx="726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天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70400" y="1388520"/>
              <a:ext cx="545760" cy="5119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37240" y="1900800"/>
              <a:ext cx="545760" cy="5119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5240" y="3384000"/>
              <a:ext cx="546120" cy="5119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66040" y="2872080"/>
              <a:ext cx="545760" cy="5119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68840" y="4914000"/>
              <a:ext cx="545760" cy="5119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94960" y="5426280"/>
              <a:ext cx="545760" cy="5119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99840" y="2872080"/>
              <a:ext cx="833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北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65240" y="324720"/>
            <a:ext cx="6351840" cy="5100480"/>
            <a:chOff x="1065240" y="324720"/>
            <a:chExt cx="6351840" cy="5100480"/>
          </a:xfrm>
        </p:grpSpPr>
        <p:sp>
          <p:nvSpPr>
            <p:cNvPr id="264" name=""/>
            <p:cNvSpPr/>
            <p:nvPr/>
          </p:nvSpPr>
          <p:spPr>
            <a:xfrm rot="19686000">
              <a:off x="2166840" y="2287080"/>
              <a:ext cx="644760" cy="320760"/>
            </a:xfrm>
            <a:prstGeom prst="rightArrow">
              <a:avLst>
                <a:gd name="adj1" fmla="val 50000"/>
                <a:gd name="adj2" fmla="val 5025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46680" y="2287440"/>
              <a:ext cx="404640" cy="1692360"/>
            </a:xfrm>
            <a:custGeom>
              <a:avLst/>
              <a:gdLst>
                <a:gd name="textAreaLeft" fmla="*/ 54000 w 404640"/>
                <a:gd name="textAreaRight" fmla="*/ 350640 w 404640"/>
                <a:gd name="textAreaTop" fmla="*/ 295920 h 1692360"/>
                <a:gd name="textAreaBottom" fmla="*/ 1226880 h 16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748800">
              <a:off x="5129280" y="2160720"/>
              <a:ext cx="417600" cy="1496880"/>
            </a:xfrm>
            <a:custGeom>
              <a:avLst/>
              <a:gdLst>
                <a:gd name="textAreaLeft" fmla="*/ 55800 w 417600"/>
                <a:gd name="textAreaRight" fmla="*/ 361800 w 417600"/>
                <a:gd name="textAreaTop" fmla="*/ 261720 h 1496880"/>
                <a:gd name="textAreaBottom" fmla="*/ 1085400 h 14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414400">
              <a:off x="7014960" y="4717800"/>
              <a:ext cx="187200" cy="733320"/>
            </a:xfrm>
            <a:prstGeom prst="downArrow">
              <a:avLst>
                <a:gd name="adj1" fmla="val 50000"/>
                <a:gd name="adj2" fmla="val 9793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3411600">
              <a:off x="5777640" y="3807360"/>
              <a:ext cx="547920" cy="907920"/>
            </a:xfrm>
            <a:custGeom>
              <a:avLst/>
              <a:gdLst>
                <a:gd name="textAreaLeft" fmla="*/ 73440 w 547920"/>
                <a:gd name="textAreaRight" fmla="*/ 474480 w 547920"/>
                <a:gd name="textAreaTop" fmla="*/ 158760 h 907920"/>
                <a:gd name="textAreaBottom" fmla="*/ 658440 h 90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05560" y="4535640"/>
              <a:ext cx="509760" cy="733320"/>
            </a:xfrm>
            <a:custGeom>
              <a:avLst/>
              <a:gdLst>
                <a:gd name="textAreaLeft" fmla="*/ 68040 w 509760"/>
                <a:gd name="textAreaRight" fmla="*/ 441720 w 509760"/>
                <a:gd name="textAreaTop" fmla="*/ 128160 h 733320"/>
                <a:gd name="textAreaBottom" fmla="*/ 53172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446400">
              <a:off x="1316520" y="2291400"/>
              <a:ext cx="828720" cy="331920"/>
            </a:xfrm>
            <a:custGeom>
              <a:avLst/>
              <a:gdLst>
                <a:gd name="textAreaLeft" fmla="*/ 129240 w 828720"/>
                <a:gd name="textAreaRight" fmla="*/ 725400 w 828720"/>
                <a:gd name="textAreaTop" fmla="*/ 82800 h 331920"/>
                <a:gd name="textAreaBottom" fmla="*/ 249120 h 3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65240" y="1203480"/>
              <a:ext cx="1101600" cy="583920"/>
            </a:xfrm>
            <a:prstGeom prst="uturnArrow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023800">
              <a:off x="3537720" y="695880"/>
              <a:ext cx="1184400" cy="366480"/>
            </a:xfrm>
            <a:custGeom>
              <a:avLst/>
              <a:gdLst>
                <a:gd name="textAreaLeft" fmla="*/ 0 w 1184400"/>
                <a:gd name="textAreaRight" fmla="*/ 1184760 w 11844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703840" y="4826160"/>
            <a:ext cx="1171800" cy="1180800"/>
            <a:chOff x="5703840" y="4826160"/>
            <a:chExt cx="1171800" cy="1180800"/>
          </a:xfrm>
        </p:grpSpPr>
        <p:sp>
          <p:nvSpPr>
            <p:cNvPr id="274" name=""/>
            <p:cNvSpPr/>
            <p:nvPr/>
          </p:nvSpPr>
          <p:spPr>
            <a:xfrm>
              <a:off x="5703840" y="4826160"/>
              <a:ext cx="509760" cy="590400"/>
            </a:xfrm>
            <a:prstGeom prst="irregularSeal2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65880" y="5416560"/>
              <a:ext cx="509760" cy="590400"/>
            </a:xfrm>
            <a:prstGeom prst="irregularSeal2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828800" y="838080"/>
            <a:ext cx="1423800" cy="1676160"/>
            <a:chOff x="1828800" y="838080"/>
            <a:chExt cx="1423800" cy="1676160"/>
          </a:xfrm>
        </p:grpSpPr>
        <p:sp>
          <p:nvSpPr>
            <p:cNvPr id="277" name=""/>
            <p:cNvSpPr/>
            <p:nvPr/>
          </p:nvSpPr>
          <p:spPr>
            <a:xfrm>
              <a:off x="2098440" y="1204200"/>
              <a:ext cx="509760" cy="589320"/>
            </a:xfrm>
            <a:prstGeom prst="irregularSeal2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1924920"/>
              <a:ext cx="509400" cy="589320"/>
            </a:xfrm>
            <a:prstGeom prst="irregularSeal2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28800" y="838080"/>
              <a:ext cx="77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28800" y="838080"/>
              <a:ext cx="77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065240" y="3886200"/>
            <a:ext cx="22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先打两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65240" y="3336840"/>
            <a:ext cx="20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分割包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2362320"/>
            <a:ext cx="9144000" cy="3200400"/>
            <a:chOff x="0" y="2362320"/>
            <a:chExt cx="9144000" cy="3200400"/>
          </a:xfrm>
        </p:grpSpPr>
        <p:grpSp>
          <p:nvGrpSpPr>
            <p:cNvPr id="284" name=""/>
            <p:cNvGrpSpPr/>
            <p:nvPr/>
          </p:nvGrpSpPr>
          <p:grpSpPr>
            <a:xfrm>
              <a:off x="0" y="2362320"/>
              <a:ext cx="9144000" cy="3200400"/>
              <a:chOff x="0" y="2362320"/>
              <a:chExt cx="9144000" cy="3200400"/>
            </a:xfrm>
          </p:grpSpPr>
          <p:pic>
            <p:nvPicPr>
              <p:cNvPr id="2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362320"/>
                <a:ext cx="308628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29040" y="2362320"/>
                <a:ext cx="308592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5880" y="2362320"/>
                <a:ext cx="3048120" cy="3200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 txBox="1"/>
            <p:nvPr/>
          </p:nvSpPr>
          <p:spPr>
            <a:xfrm>
              <a:off x="990720" y="50292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林彪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886200" y="502920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罗荣桓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7010280" y="502920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聂荣臻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</p:grpSp>
    </p:spTree>
  </p:cSld>
  <p:transition spd="slow">
    <p:cover dir="d"/>
    <p:sndAc>
      <p:stSnd>
        <p:snd r:embed="rId6" name="projctor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7621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平津战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752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参战部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17524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东北和华北解放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01336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结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50292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使华北全境基本解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8195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经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8120" y="28195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北平国民党军队在傅作义率领下，接受和平改编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初，北平和平解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彩云"/>
              </a:rPr>
              <a:t>小 讨 论 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79400" y="2187720"/>
            <a:ext cx="726120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平津战役当中，党中央采取和平手段解放北平有什么好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516720" y="4179960"/>
            <a:ext cx="21589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三大战役的历史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19810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民解放军共歼灭和改编国民党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万人，国民党军队的主力基本被消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10666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大战役后，人民解放军打到长江边，国民党妄想靠天险“划江而治”，要求和谈。当时国际上也认为中国将重现历史上的南北对峙格局。党依然以和平民主为重，同国民党谈判，拟出了“惩办战犯”等和平协议。但在蒋介石遥控下，国民党代表拒绝签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5800" y="609480"/>
            <a:ext cx="523872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923--192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广州谈判，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国共合作建立革命统一战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西安和谈，讨论第二次国共合作，建立抗日民主统一战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00360" y="3581280"/>
            <a:ext cx="4819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945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年，重庆谈判，讨论避免内战，和平建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00360" y="4267080"/>
            <a:ext cx="48196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北平谈判，讨论迅速结束内战实现和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2895480"/>
            <a:ext cx="77724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七七事变以后，南京谈判改组军队和抗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43600" y="0"/>
            <a:ext cx="2895480" cy="16765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22860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知道吗？国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党历史上经历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几次谈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920" y="380520"/>
            <a:ext cx="864216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渡江战役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一九四九年四月二十日，在南京国民党政府拒绝在国内和平协定上签字后，毛主席和朱总司令立即发布《向全国进军的命令》，于是，我第三野战军、第二野战军和第四野战军一部，在中央军委和总前委的指挥下，发起了规模巨大的渡江作战。 </a:t>
            </a:r>
            <a:br>
              <a:rPr sz="36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948360" y="4941720"/>
            <a:ext cx="15145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09480" y="1049400"/>
            <a:ext cx="7924680" cy="5486040"/>
            <a:chOff x="609480" y="1049400"/>
            <a:chExt cx="7924680" cy="548604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09480" y="1049400"/>
              <a:ext cx="7904520" cy="54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09480" y="1049400"/>
              <a:ext cx="7924680" cy="54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457280" y="338040"/>
            <a:ext cx="638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战略决战前国民党军五大集团分布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230880" y="2284560"/>
            <a:ext cx="914400" cy="1117440"/>
            <a:chOff x="6230880" y="2284560"/>
            <a:chExt cx="914400" cy="1117440"/>
          </a:xfrm>
        </p:grpSpPr>
        <p:sp>
          <p:nvSpPr>
            <p:cNvPr id="52" name=""/>
            <p:cNvSpPr/>
            <p:nvPr/>
          </p:nvSpPr>
          <p:spPr>
            <a:xfrm>
              <a:off x="6840360" y="2284560"/>
              <a:ext cx="304920" cy="54108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30880" y="2860560"/>
              <a:ext cx="304920" cy="54144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35800" y="2604960"/>
              <a:ext cx="304560" cy="54144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894200" y="3043080"/>
            <a:ext cx="1336680" cy="816120"/>
            <a:chOff x="4894200" y="3043080"/>
            <a:chExt cx="1336680" cy="816120"/>
          </a:xfrm>
        </p:grpSpPr>
        <p:sp>
          <p:nvSpPr>
            <p:cNvPr id="56" name=""/>
            <p:cNvSpPr/>
            <p:nvPr/>
          </p:nvSpPr>
          <p:spPr>
            <a:xfrm>
              <a:off x="4894200" y="3043080"/>
              <a:ext cx="304920" cy="40824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21400" y="3146400"/>
              <a:ext cx="304560" cy="40788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16480" y="3043080"/>
              <a:ext cx="304920" cy="40824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25960" y="3451320"/>
              <a:ext cx="304920" cy="40788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316480" y="3859200"/>
            <a:ext cx="1219320" cy="523800"/>
            <a:chOff x="5316480" y="3859200"/>
            <a:chExt cx="1219320" cy="523800"/>
          </a:xfrm>
        </p:grpSpPr>
        <p:sp>
          <p:nvSpPr>
            <p:cNvPr id="61" name=""/>
            <p:cNvSpPr/>
            <p:nvPr/>
          </p:nvSpPr>
          <p:spPr>
            <a:xfrm>
              <a:off x="5621400" y="4011480"/>
              <a:ext cx="304560" cy="3715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30880" y="3859200"/>
              <a:ext cx="304920" cy="3715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16480" y="4011480"/>
              <a:ext cx="304920" cy="3715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99120" y="4383000"/>
            <a:ext cx="879480" cy="717480"/>
            <a:chOff x="5199120" y="4383000"/>
            <a:chExt cx="879480" cy="717480"/>
          </a:xfrm>
        </p:grpSpPr>
        <p:sp>
          <p:nvSpPr>
            <p:cNvPr id="65" name=""/>
            <p:cNvSpPr/>
            <p:nvPr/>
          </p:nvSpPr>
          <p:spPr>
            <a:xfrm>
              <a:off x="5621400" y="4383000"/>
              <a:ext cx="304560" cy="3589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73680" y="4741920"/>
              <a:ext cx="304920" cy="35856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99120" y="4687920"/>
              <a:ext cx="304920" cy="35892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04040" y="4741920"/>
              <a:ext cx="304560" cy="35856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284720" y="3652920"/>
            <a:ext cx="609480" cy="1035000"/>
            <a:chOff x="4284720" y="3652920"/>
            <a:chExt cx="609480" cy="1035000"/>
          </a:xfrm>
        </p:grpSpPr>
        <p:sp>
          <p:nvSpPr>
            <p:cNvPr id="70" name=""/>
            <p:cNvSpPr/>
            <p:nvPr/>
          </p:nvSpPr>
          <p:spPr>
            <a:xfrm>
              <a:off x="4284720" y="3652920"/>
              <a:ext cx="304920" cy="57780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9640" y="4110120"/>
              <a:ext cx="304560" cy="577800"/>
            </a:xfrm>
            <a:prstGeom prst="su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9480" y="609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渡江战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16002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16002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505320" y="228600"/>
            <a:ext cx="30477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Times New Roman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1219320" y="1312920"/>
            <a:ext cx="7162560" cy="5011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338720" y="3936960"/>
            <a:ext cx="304560" cy="28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165440" y="2133720"/>
            <a:ext cx="6073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250ba"/>
                </a:solidFill>
                <a:latin typeface="Times New Roman"/>
              </a:rPr>
              <a:t>江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9880" y="152280"/>
            <a:ext cx="2562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渡江战役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21" name=""/>
          <p:cNvSpPr/>
          <p:nvPr/>
        </p:nvSpPr>
        <p:spPr>
          <a:xfrm>
            <a:off x="6659640" y="2421000"/>
            <a:ext cx="2682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60240" y="4191120"/>
            <a:ext cx="6073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250ba"/>
                </a:solidFill>
                <a:latin typeface="Times New Roman"/>
              </a:rPr>
              <a:t>湖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619200" cy="2570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0" y="76320"/>
            <a:ext cx="1447920" cy="67816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ffff"/>
              </a:gs>
            </a:gsLst>
            <a:lin ang="13500000"/>
          </a:gra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9600" y="92664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华文新魏"/>
                <a:ea typeface="华文新魏"/>
              </a:rPr>
              <a:t>解放战争胜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56880" y="2637000"/>
            <a:ext cx="66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华文中宋"/>
              </a:rPr>
              <a:t>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6000" y="227664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2205000"/>
            <a:ext cx="533160" cy="4572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24800" y="6600960"/>
            <a:ext cx="619200" cy="257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33"/>
                                </p:to>
                              </p:animCl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00400" y="44280"/>
            <a:ext cx="2895480" cy="7034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Times New Roman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433680" y="44280"/>
            <a:ext cx="2362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解放南京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3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6920" y="777960"/>
            <a:ext cx="7417080" cy="6068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6192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9520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32"/>
                </p:tgtEl>
              </p:cMediaNode>
            </p:audio>
            <p:seq>
              <p:cTn id="372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6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505320" y="228600"/>
            <a:ext cx="30477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Times New Roman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19320" y="1312920"/>
            <a:ext cx="7162560" cy="50115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338720" y="3936960"/>
            <a:ext cx="304560" cy="284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5440" y="2133720"/>
            <a:ext cx="6073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250ba"/>
                </a:solidFill>
                <a:latin typeface="Times New Roman"/>
              </a:rPr>
              <a:t>江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09880" y="152280"/>
            <a:ext cx="2562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渡江战役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2421000"/>
            <a:ext cx="2682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60240" y="4191120"/>
            <a:ext cx="6073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250ba"/>
                </a:solidFill>
                <a:latin typeface="Times New Roman"/>
              </a:rPr>
              <a:t>湖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619200" cy="2570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0" y="76320"/>
            <a:ext cx="1447920" cy="678168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ffff"/>
              </a:gs>
            </a:gsLst>
            <a:lin ang="13500000"/>
          </a:gra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600" y="92664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华文新魏"/>
                <a:ea typeface="华文新魏"/>
              </a:rPr>
              <a:t>解放战争胜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56880" y="2637000"/>
            <a:ext cx="66852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华文中宋"/>
              </a:rPr>
              <a:t>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96000" y="227664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51640" y="2205000"/>
            <a:ext cx="533160" cy="4572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355400">
            <a:off x="896400" y="2566800"/>
            <a:ext cx="71931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蒋家王朝覆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09480" y="609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渡江战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16002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6002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28195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结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28195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南京解放，统治中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的国民党政权垮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763720" cy="1157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224440" y="2637000"/>
            <a:ext cx="4847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www.aaaxk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5280" y="4221000"/>
            <a:ext cx="8458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三星学科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教师助手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学生帮手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家长朋友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656440" y="762120"/>
            <a:ext cx="3965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民解放军占领南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九四九年四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山风雨起苍黄，百万雄师过大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踞龙盘今胜昔，天翻地覆慨而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宜将胜勇追穷寇，不可沽名学霸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若有情天亦老，人间正道是沧桑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755640" y="1197000"/>
          <a:ext cx="7702560" cy="5176800"/>
        </p:xfrm>
        <a:graphic>
          <a:graphicData uri="http://schemas.openxmlformats.org/drawingml/2006/table">
            <a:tbl>
              <a:tblPr/>
              <a:tblGrid>
                <a:gridCol w="2103480"/>
                <a:gridCol w="3003480"/>
                <a:gridCol w="2595600"/>
              </a:tblGrid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国民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共产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拥有军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430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万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30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万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武器装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接受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00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万日军的装备，取得美国大量武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基本上是步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拥有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亿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亿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拥有地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大城市，绝大部分铁路交通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小城镇、乡村、偏远地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1835280" y="404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解放战争开始时的力量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49280" y="26028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共产党为什么在三年内就能以弱胜强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592200" y="981000"/>
            <a:ext cx="261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A.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力量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9640" y="19018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士气民心</a:t>
            </a:r>
            <a:r>
              <a:rPr b="0" lang="zh-CN" sz="2800" spc="-1" strike="noStrike">
                <a:solidFill>
                  <a:srgbClr val="66ffff"/>
                </a:solidFill>
                <a:latin typeface="黑体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9640" y="36306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政权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5286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帅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5" action="ppaction://hlinksldjump"/>
          </p:cNvPr>
          <p:cNvSpPr/>
          <p:nvPr/>
        </p:nvSpPr>
        <p:spPr>
          <a:xfrm>
            <a:off x="539640" y="5934240"/>
            <a:ext cx="244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 action="ppaction://hlinksldjump"/>
              </a:rPr>
              <a:t>E.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7" action="ppaction://hlinksldjump"/>
              </a:rPr>
              <a:t>历史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30560" y="9414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随着战争进程发生剧烈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30560" y="16905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放军打仗勇敢，共产党得到人民的拥护和支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16360" y="2781360"/>
            <a:ext cx="54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国民党政权代表大地主大资产阶级利益，对内压迫和镇压人民，对外成了帝国主义的走狗，是旧社会三座大山的总代表，是新民主主义革命的对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30560" y="52862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国民党指挥失当，毛泽东懂军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8"/>
          <a:stretch/>
        </p:blipFill>
        <p:spPr>
          <a:xfrm>
            <a:off x="900000" y="20257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9"/>
          <a:stretch/>
        </p:blipFill>
        <p:spPr>
          <a:xfrm>
            <a:off x="826920" y="6058080"/>
            <a:ext cx="3240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879480" y="985680"/>
            <a:ext cx="75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国民党发动内战，违背了抗日战争胜利后和平民主的历史发展趋势，也违背了全国人民的利益和意愿，不得人心，必然走向失败。共产党代表全国人民的利益和要求，顺应了抗战后和平民主的历史发展趋势，所进行的事业是正义的、进步的，得到了人民群众的拥护和支持，必然取得最后的胜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46480" y="517680"/>
            <a:ext cx="519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敌我力量对比表  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1948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年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1440" y="1693800"/>
            <a:ext cx="8585280" cy="5587920"/>
            <a:chOff x="271440" y="1693800"/>
            <a:chExt cx="8585280" cy="5587920"/>
          </a:xfrm>
        </p:grpSpPr>
        <p:graphicFrame>
          <p:nvGraphicFramePr>
            <p:cNvPr id="74" name=""/>
            <p:cNvGraphicFramePr/>
            <p:nvPr/>
          </p:nvGraphicFramePr>
          <p:xfrm>
            <a:off x="271440" y="1693800"/>
            <a:ext cx="8585280" cy="55879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1440" y="1693800"/>
                      <a:ext cx="8585280" cy="558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627120" y="1916280"/>
              <a:ext cx="13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66"/>
                  </a:solidFill>
                  <a:latin typeface="Times New Roman"/>
                  <a:ea typeface="隶书"/>
                </a:rPr>
                <a:t>部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1760" y="1697040"/>
              <a:ext cx="59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66"/>
                  </a:solidFill>
                  <a:latin typeface="Times New Roman"/>
                  <a:ea typeface="隶书"/>
                </a:rPr>
                <a:t>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19560" y="1697040"/>
              <a:ext cx="14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66"/>
                  </a:solidFill>
                  <a:latin typeface="Times New Roman"/>
                  <a:ea typeface="隶书"/>
                </a:rPr>
                <a:t>机动</a:t>
              </a:r>
              <a:r>
                <a:rPr b="0" lang="zh-CN" sz="3200" spc="-1" strike="noStrike">
                  <a:solidFill>
                    <a:srgbClr val="00cc66"/>
                  </a:solidFill>
                  <a:latin typeface="Times New Roman"/>
                  <a:ea typeface="隶书"/>
                </a:rPr>
                <a:t> </a:t>
              </a:r>
              <a:r>
                <a:rPr b="0" lang="zh-CN" sz="3200" spc="-1" strike="noStrike">
                  <a:solidFill>
                    <a:srgbClr val="993366"/>
                  </a:solidFill>
                  <a:latin typeface="Times New Roman"/>
                  <a:ea typeface="隶书"/>
                </a:rPr>
                <a:t>兵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21240" y="1916280"/>
              <a:ext cx="13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66"/>
                  </a:solidFill>
                  <a:latin typeface="Times New Roman"/>
                  <a:ea typeface="隶书"/>
                </a:rPr>
                <a:t>装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08680" y="1916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66"/>
                  </a:solidFill>
                  <a:latin typeface="Times New Roman"/>
                  <a:ea typeface="隶书"/>
                </a:rPr>
                <a:t>后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48680" y="1916280"/>
              <a:ext cx="11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66"/>
                  </a:solidFill>
                  <a:latin typeface="Times New Roman"/>
                  <a:ea typeface="隶书"/>
                </a:rPr>
                <a:t>士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63800" y="2122560"/>
              <a:ext cx="135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66"/>
                  </a:solidFill>
                  <a:latin typeface="Times New Roman"/>
                  <a:ea typeface="隶书"/>
                </a:rPr>
                <a:t>兵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7280" y="2997360"/>
              <a:ext cx="1903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600" spc="-1" strike="noStrike">
                  <a:solidFill>
                    <a:srgbClr val="ff0066"/>
                  </a:solidFill>
                  <a:latin typeface="隶书"/>
                  <a:ea typeface="隶书"/>
                </a:rPr>
                <a:t>人民   解放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07960" y="4476600"/>
              <a:ext cx="1838520" cy="2288520"/>
              <a:chOff x="507960" y="4476600"/>
              <a:chExt cx="1838520" cy="2288520"/>
            </a:xfrm>
          </p:grpSpPr>
          <p:sp>
            <p:nvSpPr>
              <p:cNvPr id="85" name=""/>
              <p:cNvSpPr/>
              <p:nvPr/>
            </p:nvSpPr>
            <p:spPr>
              <a:xfrm>
                <a:off x="507960" y="4476600"/>
                <a:ext cx="16020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国民党               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4480" y="5117760"/>
                <a:ext cx="160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99"/>
                    </a:solidFill>
                    <a:latin typeface="Times New Roman"/>
                    <a:ea typeface="隶书"/>
                  </a:rPr>
                  <a:t>军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2201760" y="2997360"/>
            <a:ext cx="90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80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1760" y="4691160"/>
            <a:ext cx="120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65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19560" y="299736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优于  敌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19560" y="490392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41920" y="2997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为改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41920" y="469116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略占  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8680" y="32828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巩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25960" y="4691160"/>
            <a:ext cx="11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危机四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3282840"/>
            <a:ext cx="11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48680" y="490392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250920" y="1844640"/>
          <a:ext cx="8497800" cy="4508640"/>
        </p:xfrm>
        <a:graphic>
          <a:graphicData uri="http://schemas.openxmlformats.org/drawingml/2006/table">
            <a:tbl>
              <a:tblPr/>
              <a:tblGrid>
                <a:gridCol w="1728720"/>
                <a:gridCol w="2952720"/>
                <a:gridCol w="1871640"/>
                <a:gridCol w="1944720"/>
              </a:tblGrid>
              <a:tr h="118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战役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起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计歼敌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历史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324000" y="33498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辽沈战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71640" y="31464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9280" y="44308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淮海战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0" y="5516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平津战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50920" y="3059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4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9—1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050920" y="422100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4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月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3573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歼灭和改编敌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万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3272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国民党军队的主力基本上被消灭，大大加速了人民解放战争在全国的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79640" y="530064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4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月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大战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398680" y="2421000"/>
            <a:ext cx="432756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www.3edu.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4005360"/>
            <a:ext cx="8458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完全免费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无需注册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天天更新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2050920" y="404640"/>
            <a:ext cx="4915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1280" y="380880"/>
            <a:ext cx="4673880" cy="6477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3808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三大战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94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月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94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7621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辽沈战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692280"/>
            <a:ext cx="6264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三大战役为什么选择东北作为突破口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708280"/>
            <a:ext cx="187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．兵力对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．敌军态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．我军态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．战局延伸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263700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263700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转入反攻后，东北地区的人民解放军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兵力超过了国民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这是当时最新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3645000"/>
            <a:ext cx="5688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国民党军队被孤立分散，活动范围小，补给困难，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是战是守举棋不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653000"/>
            <a:ext cx="56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解放军根据地广阔，物质力量雄厚、得到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楷体_GB2312"/>
              </a:rPr>
              <a:t>人民支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刚完成土地改革）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5516640"/>
            <a:ext cx="6120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胜利后可以</a:t>
            </a:r>
            <a:r>
              <a:rPr b="1" lang="zh-CN" sz="2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挥师入关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利于华北、华东的作战；还能以</a:t>
            </a:r>
            <a:r>
              <a:rPr b="1" lang="zh-CN" sz="2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东北的工业支援全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6280"/>
            <a:ext cx="1944720" cy="100800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请推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0" r="-82" b="-185"/>
          <a:stretch/>
        </p:blipFill>
        <p:spPr>
          <a:xfrm>
            <a:off x="1447920" y="1143000"/>
            <a:ext cx="6019560" cy="403848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1523880" y="5302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辽沈战役指挥者林彪（中）、罗荣桓（右）等在作战前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476280"/>
            <a:ext cx="2084400" cy="2303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948360" y="189000"/>
            <a:ext cx="1905120" cy="2562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2680" y="2781360"/>
            <a:ext cx="729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林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56120" y="2708280"/>
            <a:ext cx="1003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罗荣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7621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辽沈战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9810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指挥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981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林彪、罗荣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276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参战部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276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东北人民解放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aaxk.com</dc:creator>
  <dc:description>http://www.aaaxk.com</dc:description>
  <cp:keywords>免费课件、免费试题、免费教案、免费论文</cp:keywords>
  <dc:language>en-US</dc:language>
  <cp:lastModifiedBy>微软用户</cp:lastModifiedBy>
  <dcterms:modified xsi:type="dcterms:W3CDTF">2012-11-26T09:49:26Z</dcterms:modified>
  <cp:revision>1</cp:revision>
  <dc:subject>教师助手，学生帮手，家长朋友，三星学科</dc:subject>
  <dc:title>三星学科，教育第三方，3edu教育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20000000000010250600207e7000400038000</vt:lpwstr>
  </property>
  <property fmtid="{D5CDD505-2E9C-101B-9397-08002B2CF9AE}" pid="3" name="Version">
    <vt:r8>1</vt:r8>
  </property>
</Properties>
</file>